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6B8-AB4F-4323-A129-4E3CB736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B1D-E2C7-401D-98C5-CD9E4DE5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E6D-FE48-4F39-8EC7-244EC04B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92D-DF1A-4544-916C-CAA71AAB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20C-B6FC-49FF-81D4-9B4D366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932-90E1-4C62-8D0C-5F87A4D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684-072B-4EBC-83FA-1E182D2F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9AA-0562-4EA8-B9A2-FA2D02D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612-95DD-4CB0-8BE8-BF86C07A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B2E-9E21-46AF-84F1-0082D58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DC6-ACEE-466D-B36B-18413EE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8CE-B47A-4E0A-875E-B94C94E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1F6-0396-4BF5-87C6-C73506157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13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4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7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31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43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5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90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5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4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3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7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6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5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3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3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21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50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51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9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7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8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6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12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14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29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70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90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92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09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13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32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36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42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49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53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74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77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90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02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18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35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43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86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194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00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03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08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14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75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78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91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4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5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6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67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6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21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24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37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56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60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83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490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494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33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37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45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48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53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57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63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86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14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60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75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76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2520" y="1380960"/>
            <a:ext cx="5066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także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5-04-19T14:58:41Z</dcterms:modified>
  <cp:revision>75</cp:revision>
  <dc:subject/>
  <dc:title>Wzmacniacze prądu stałego</dc:title>
</cp:coreProperties>
</file>